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441-FC1E-43AA-9991-B1E852F9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1E0-98BF-4B79-9804-60494DC2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8AE-C0ED-44B7-99A5-A2F40903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E086-4AE1-43B5-92E5-72380474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A012-D1F8-4B5A-B359-A3FB50D7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4BA-310F-41BF-86F8-6EB826B3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E8F3-B013-4018-81ED-2066E461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2BA-9715-463A-8B59-A5C8FCC8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25B-478B-4D28-A17C-EF95E500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567-360D-4B82-9029-039C95A0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10A8-44C7-4483-A07C-B545B514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A47-6D9C-46DF-ABC9-D7E79B61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DA4F-B388-48C7-BBEF-43ABE19E3D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内乘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1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400120" y="1914480"/>
            <a:ext cx="2085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整理和复习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1357200" y="5715000"/>
            <a:ext cx="714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185760" y="5325480"/>
            <a:ext cx="8929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表是小英整理的一部分，你知道小英想要怎样整理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85760" y="5797080"/>
            <a:ext cx="835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能把余下的口诀补充完整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392040" y="155736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整理口诀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35"/>
          <p:cNvPicPr/>
          <p:nvPr/>
        </p:nvPicPr>
        <p:blipFill>
          <a:blip r:embed="rId1"/>
          <a:stretch/>
        </p:blipFill>
        <p:spPr>
          <a:xfrm>
            <a:off x="971640" y="2664000"/>
            <a:ext cx="7129440" cy="2287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57200" y="490680"/>
            <a:ext cx="81154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一、整理口诀，发现规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357200" y="5715000"/>
            <a:ext cx="714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169920" y="5030280"/>
            <a:ext cx="835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观察表格，你有什么发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69920" y="5485680"/>
            <a:ext cx="835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他是怎么观察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92040" y="155736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发现规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69920" y="5936760"/>
            <a:ext cx="835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还有不同的想法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66-2"/>
          <p:cNvPicPr/>
          <p:nvPr/>
        </p:nvPicPr>
        <p:blipFill>
          <a:blip r:embed="rId1"/>
          <a:stretch/>
        </p:blipFill>
        <p:spPr>
          <a:xfrm>
            <a:off x="998640" y="2421000"/>
            <a:ext cx="7543800" cy="2209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457200" y="490680"/>
            <a:ext cx="81154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一、整理口诀，发现规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1357200" y="5715000"/>
            <a:ext cx="714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9"/>
          <p:cNvSpPr/>
          <p:nvPr/>
        </p:nvSpPr>
        <p:spPr>
          <a:xfrm>
            <a:off x="1509840" y="586728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7" descr="66-2"/>
          <p:cNvPicPr/>
          <p:nvPr/>
        </p:nvPicPr>
        <p:blipFill>
          <a:blip r:embed="rId1"/>
          <a:stretch/>
        </p:blipFill>
        <p:spPr>
          <a:xfrm>
            <a:off x="998640" y="2421000"/>
            <a:ext cx="7543800" cy="2209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392040" y="155736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沟通口诀与算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68120" y="6139440"/>
            <a:ext cx="74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问题：任选一句口诀，你能说出两个乘法算式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12"/>
          <p:cNvPicPr/>
          <p:nvPr/>
        </p:nvPicPr>
        <p:blipFill>
          <a:blip r:embed="rId2"/>
          <a:stretch/>
        </p:blipFill>
        <p:spPr>
          <a:xfrm>
            <a:off x="2781360" y="4437000"/>
            <a:ext cx="1503360" cy="1712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11"/>
          <p:cNvPicPr/>
          <p:nvPr/>
        </p:nvPicPr>
        <p:blipFill>
          <a:blip r:embed="rId3"/>
          <a:stretch/>
        </p:blipFill>
        <p:spPr>
          <a:xfrm>
            <a:off x="4932360" y="4443480"/>
            <a:ext cx="1362240" cy="17938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457200" y="490680"/>
            <a:ext cx="81154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一、整理口诀，发现规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1357200" y="5715000"/>
            <a:ext cx="714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41580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借助规律，排列算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85840" y="5390640"/>
            <a:ext cx="835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能接着整理这些算式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85840" y="5870160"/>
            <a:ext cx="835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说说看，你的算式是按什么规律排列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38"/>
          <p:cNvPicPr/>
          <p:nvPr/>
        </p:nvPicPr>
        <p:blipFill>
          <a:blip r:embed="rId1"/>
          <a:srcRect l="0" t="146" r="0" b="0"/>
          <a:stretch/>
        </p:blipFill>
        <p:spPr>
          <a:xfrm>
            <a:off x="611280" y="1461960"/>
            <a:ext cx="7399080" cy="3652920"/>
          </a:xfrm>
          <a:prstGeom prst="rect">
            <a:avLst/>
          </a:prstGeom>
          <a:ln w="0">
            <a:noFill/>
          </a:ln>
        </p:spPr>
      </p:pic>
      <p:sp>
        <p:nvSpPr>
          <p:cNvPr id="70" name="矩形 5"/>
          <p:cNvSpPr/>
          <p:nvPr/>
        </p:nvSpPr>
        <p:spPr>
          <a:xfrm>
            <a:off x="1357200" y="5715000"/>
            <a:ext cx="714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8" descr="37"/>
          <p:cNvPicPr/>
          <p:nvPr/>
        </p:nvPicPr>
        <p:blipFill>
          <a:blip r:embed="rId1"/>
          <a:stretch/>
        </p:blipFill>
        <p:spPr>
          <a:xfrm>
            <a:off x="539640" y="2565360"/>
            <a:ext cx="7634520" cy="23385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综合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92040" y="155736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看谁算得又对又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1571760" y="2502000"/>
            <a:ext cx="92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1571760" y="2949480"/>
            <a:ext cx="85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1571760" y="3390840"/>
            <a:ext cx="57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1571760" y="3841920"/>
            <a:ext cx="85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1571760" y="4292640"/>
            <a:ext cx="57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3708360" y="2492280"/>
            <a:ext cx="9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3706920" y="2949480"/>
            <a:ext cx="57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3706920" y="338940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3706920" y="3838680"/>
            <a:ext cx="92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3706920" y="4292640"/>
            <a:ext cx="57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5810400" y="2500200"/>
            <a:ext cx="71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2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5807160" y="2949480"/>
            <a:ext cx="57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5807160" y="338940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5807160" y="3838680"/>
            <a:ext cx="57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5807160" y="429264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7920000" y="250020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3"/>
          <p:cNvSpPr/>
          <p:nvPr/>
        </p:nvSpPr>
        <p:spPr>
          <a:xfrm>
            <a:off x="7920000" y="3389400"/>
            <a:ext cx="71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4"/>
          <p:cNvSpPr/>
          <p:nvPr/>
        </p:nvSpPr>
        <p:spPr>
          <a:xfrm>
            <a:off x="7920000" y="2949480"/>
            <a:ext cx="71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5"/>
          <p:cNvSpPr/>
          <p:nvPr/>
        </p:nvSpPr>
        <p:spPr>
          <a:xfrm>
            <a:off x="7920000" y="3838680"/>
            <a:ext cx="71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6"/>
          <p:cNvSpPr/>
          <p:nvPr/>
        </p:nvSpPr>
        <p:spPr>
          <a:xfrm>
            <a:off x="7920000" y="429264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3"/>
          <p:cNvGrpSpPr/>
          <p:nvPr/>
        </p:nvGrpSpPr>
        <p:grpSpPr>
          <a:xfrm>
            <a:off x="468360" y="5013360"/>
            <a:ext cx="4464000" cy="1353240"/>
            <a:chOff x="468360" y="5013360"/>
            <a:chExt cx="4464000" cy="1353240"/>
          </a:xfrm>
        </p:grpSpPr>
        <p:pic>
          <p:nvPicPr>
            <p:cNvPr id="95" name="Picture 30" descr="女天使副本"/>
            <p:cNvPicPr/>
            <p:nvPr/>
          </p:nvPicPr>
          <p:blipFill>
            <a:blip r:embed="rId2"/>
            <a:stretch/>
          </p:blipFill>
          <p:spPr>
            <a:xfrm>
              <a:off x="468360" y="5013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AutoShape 31"/>
            <p:cNvSpPr/>
            <p:nvPr/>
          </p:nvSpPr>
          <p:spPr>
            <a:xfrm>
              <a:off x="2124000" y="5554800"/>
              <a:ext cx="2808360" cy="811800"/>
            </a:xfrm>
            <a:prstGeom prst="wedgeRoundRectCallout">
              <a:avLst>
                <a:gd name="adj1" fmla="val -57842"/>
                <a:gd name="adj2" fmla="val 94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算一算，说一说用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哪句口诀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5" descr="36"/>
          <p:cNvPicPr/>
          <p:nvPr/>
        </p:nvPicPr>
        <p:blipFill>
          <a:blip r:embed="rId1"/>
          <a:stretch/>
        </p:blipFill>
        <p:spPr>
          <a:xfrm>
            <a:off x="611280" y="2997360"/>
            <a:ext cx="7956360" cy="1041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三、巩固练习，综合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92040" y="155736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想一想，算一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2036880" y="2965320"/>
            <a:ext cx="785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2035080" y="3465360"/>
            <a:ext cx="857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5133960" y="2965320"/>
            <a:ext cx="714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5133960" y="3465360"/>
            <a:ext cx="785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8047080" y="2965320"/>
            <a:ext cx="804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8045280" y="3465360"/>
            <a:ext cx="785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684360" y="4454640"/>
            <a:ext cx="3566880" cy="1514880"/>
            <a:chOff x="684360" y="4454640"/>
            <a:chExt cx="3566880" cy="1514880"/>
          </a:xfrm>
        </p:grpSpPr>
        <p:pic>
          <p:nvPicPr>
            <p:cNvPr id="107" name="Picture 16" descr="女天使副本"/>
            <p:cNvPicPr/>
            <p:nvPr/>
          </p:nvPicPr>
          <p:blipFill>
            <a:blip r:embed="rId2"/>
            <a:stretch/>
          </p:blipFill>
          <p:spPr>
            <a:xfrm>
              <a:off x="684360" y="445464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AutoShape 17"/>
            <p:cNvSpPr/>
            <p:nvPr/>
          </p:nvSpPr>
          <p:spPr>
            <a:xfrm>
              <a:off x="2268360" y="5157720"/>
              <a:ext cx="1982880" cy="811800"/>
            </a:xfrm>
            <a:prstGeom prst="wedgeRoundRectCallout">
              <a:avLst>
                <a:gd name="adj1" fmla="val -63990"/>
                <a:gd name="adj2" fmla="val 69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一说，你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怎么算的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矩形 15"/>
          <p:cNvSpPr/>
          <p:nvPr/>
        </p:nvSpPr>
        <p:spPr>
          <a:xfrm>
            <a:off x="1357200" y="5715000"/>
            <a:ext cx="714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716040" y="2494080"/>
            <a:ext cx="8103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7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十五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1357200" y="5715000"/>
            <a:ext cx="714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1T10:24:18Z</dcterms:created>
  <dc:creator>PC</dc:creator>
  <dc:description/>
  <dc:language>en-US</dc:language>
  <cp:lastModifiedBy>万润仪器贸易公司</cp:lastModifiedBy>
  <dcterms:modified xsi:type="dcterms:W3CDTF">2018-09-01T10:24:1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